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AA203-DA24-488E-9902-FC90DC7712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C7B3B-E03D-49C8-8B99-0F7B5D26F3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EB26D-CD4A-40A6-83EB-5F6D258A48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D77E5-88D5-4C27-B597-E41F940046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A7123-802A-493C-A27C-17522FC9B5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7C276-4BB9-4051-A4E9-0A9585B997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D02C7-0352-4136-9FFA-80BB065749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F273C-AF45-42F2-938F-E1A24A66AE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749AA-8D4E-49E8-8CAF-68EEDD0C24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985EA-3381-4ADA-835E-B4B24F812F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FFB09-93BD-49A2-B014-61D559BD18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82778-1BA4-4BC7-88C5-2E6354215D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1FF8-7AD9-44BB-B6A2-49F9B4B0E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1945-4C71-42A9-A99F-5EF143379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4370-B90E-4094-A9BE-BE64298C9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05CF-3F63-4063-ABE3-4B4DB3355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9ADF-EEEA-4DFE-BD9B-1781EB32D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3799-C26E-46CA-9814-DC5F4B098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0C06-A431-4DE8-BCA0-42E5BCDA6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8186-C501-4D80-9C2F-6B125EABB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0BAF-B988-448C-ABBB-CD951CFE7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4039-E6A8-4507-994A-788E25853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9171-E67A-4308-8E8D-766B375EA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D1CE-E416-45BD-A5E0-14C9C9479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D80F5-CC29-4AA8-B08D-DB79D9A660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Kim Thomas\Pictures\Ian Jukes\Home Page.JPG"/>
          <p:cNvPicPr/>
          <p:nvPr/>
        </p:nvPicPr>
        <p:blipFill>
          <a:blip r:embed="rId1"/>
          <a:stretch/>
        </p:blipFill>
        <p:spPr>
          <a:xfrm>
            <a:off x="0" y="0"/>
            <a:ext cx="9117000" cy="621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C:\Users\Kim Thomas\Pictures\Ian Jukes\digital bit.JPG"/>
          <p:cNvPicPr/>
          <p:nvPr/>
        </p:nvPicPr>
        <p:blipFill>
          <a:blip r:embed="rId1"/>
          <a:stretch/>
        </p:blipFill>
        <p:spPr>
          <a:xfrm>
            <a:off x="2514600" y="304920"/>
            <a:ext cx="47941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C:\Users\Kim Thomas\Pictures\Ian Jukes\digital bit wordle.JPG"/>
          <p:cNvPicPr/>
          <p:nvPr/>
        </p:nvPicPr>
        <p:blipFill>
          <a:blip r:embed="rId1"/>
          <a:stretch/>
        </p:blipFill>
        <p:spPr>
          <a:xfrm>
            <a:off x="171360" y="762120"/>
            <a:ext cx="88203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C:\Users\Kim Thomas\Pictures\Ian Jukes\funny stuff.JPG"/>
          <p:cNvPicPr/>
          <p:nvPr/>
        </p:nvPicPr>
        <p:blipFill>
          <a:blip r:embed="rId1"/>
          <a:stretch/>
        </p:blipFill>
        <p:spPr>
          <a:xfrm>
            <a:off x="304920" y="76320"/>
            <a:ext cx="8556480" cy="67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3" descr="C:\Users\Kim Thomas\Pictures\Ian Jukes\clipping photos and such.JPG"/>
          <p:cNvPicPr/>
          <p:nvPr/>
        </p:nvPicPr>
        <p:blipFill>
          <a:blip r:embed="rId1"/>
          <a:stretch/>
        </p:blipFill>
        <p:spPr>
          <a:xfrm>
            <a:off x="415800" y="106200"/>
            <a:ext cx="8194680" cy="667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C:\Users\Kim Thomas\Pictures\Ian Jukes\dog and tigers.JPG"/>
          <p:cNvPicPr/>
          <p:nvPr/>
        </p:nvPicPr>
        <p:blipFill>
          <a:blip r:embed="rId1"/>
          <a:stretch/>
        </p:blipFill>
        <p:spPr>
          <a:xfrm>
            <a:off x="1676520" y="1371600"/>
            <a:ext cx="6111720" cy="42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3" descr="C:\Users\Kim Thomas\Pictures\Ian Jukes\squirrel.JPG"/>
          <p:cNvPicPr/>
          <p:nvPr/>
        </p:nvPicPr>
        <p:blipFill>
          <a:blip r:embed="rId1"/>
          <a:stretch/>
        </p:blipFill>
        <p:spPr>
          <a:xfrm>
            <a:off x="1523880" y="1371600"/>
            <a:ext cx="6180120" cy="43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C:\Users\Kim Thomas\Pictures\Ian Jukes\giraffe.JPG"/>
          <p:cNvPicPr/>
          <p:nvPr/>
        </p:nvPicPr>
        <p:blipFill>
          <a:blip r:embed="rId1"/>
          <a:stretch/>
        </p:blipFill>
        <p:spPr>
          <a:xfrm>
            <a:off x="2944800" y="885960"/>
            <a:ext cx="2987640" cy="47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C:\Users\Kim Thomas\Pictures\Ian Jukes\fro your printing.JPG"/>
          <p:cNvPicPr/>
          <p:nvPr/>
        </p:nvPicPr>
        <p:blipFill>
          <a:blip r:embed="rId1"/>
          <a:stretch/>
        </p:blipFill>
        <p:spPr>
          <a:xfrm>
            <a:off x="1789200" y="380880"/>
            <a:ext cx="5605200" cy="621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C:\Users\Kim Thomas\Pictures\Ian Jukes\chicago fountain.JPG"/>
          <p:cNvPicPr/>
          <p:nvPr/>
        </p:nvPicPr>
        <p:blipFill>
          <a:blip r:embed="rId1"/>
          <a:stretch/>
        </p:blipFill>
        <p:spPr>
          <a:xfrm>
            <a:off x="1219320" y="533520"/>
            <a:ext cx="721512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C:\Users\Kim Thomas\Pictures\Ian Jukes\funny stuff.JPG"/>
          <p:cNvPicPr/>
          <p:nvPr/>
        </p:nvPicPr>
        <p:blipFill>
          <a:blip r:embed="rId1"/>
          <a:stretch/>
        </p:blipFill>
        <p:spPr>
          <a:xfrm>
            <a:off x="609480" y="152280"/>
            <a:ext cx="8209080" cy="649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1T03:30:25Z</dcterms:created>
  <dc:creator>Kim Thomas</dc:creator>
  <dc:description/>
  <dc:language>en-US</dc:language>
  <cp:lastModifiedBy>Kim Thomas</cp:lastModifiedBy>
  <dcterms:modified xsi:type="dcterms:W3CDTF">2010-10-11T03:39:46Z</dcterms:modified>
  <cp:revision>1</cp:revision>
  <dc:subject/>
  <dc:title>Slide 1</dc:title>
</cp:coreProperties>
</file>